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664F-C08F-4F12-BF67-1064475AF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5BFD-FF7D-466A-9DC3-B3F693326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1DA6-3115-45D5-A3C5-7280FB5F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4D9A-56C0-462C-821C-2DAB85DC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A5EB-ECF3-4BDB-B78A-D877B404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A3E-74EE-43A8-A17A-80B3CD59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BC0-8ABB-4D56-B4D3-12E0EBE6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5C9D-D0A6-453D-B0F4-D83115A4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580-03E8-4A56-B6FF-C649FB6E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7F7-3EF0-4DD9-A788-89C88A40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69C-F172-4299-860E-63953E06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D5D-9A2A-4E7B-8395-541DD9F9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2C8-E2E0-40CF-BE8B-4B38CBBF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4FD-1545-4946-A247-435E8B28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32C9-DB50-4CFE-B3C1-5151B55CE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hfooza Choudh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hfooza Choudh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228600" y="22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Ver fotos de Mahfooza Choudhu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nviar mensaje a Mahfooza Choudhu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971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olpea a Mahfooza Choudhu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como estas Noure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 flipV="1">
            <a:off x="152280" y="3352680"/>
            <a:ext cx="1600200" cy="763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Zena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nombre es Mahfooza Choudhury. Mi escuela es TYWLS de Astoria. Tengo 14 años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stoy en el grado 9. Mi color favorite es el Azul. Amo lee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819520" y="3657600"/>
            <a:ext cx="42670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ñana es mi cumpleaños y estoy muy feli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124080"/>
            <a:ext cx="426708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ahfooza. Bunas Días Mahfooza. Estoy muy feliz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2438280"/>
            <a:ext cx="42670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Hola Noureen. Como estas?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esta: Commetario 14 minutes ago. Dec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895480" y="4191120"/>
            <a:ext cx="41148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FELIZ COMPLEANOS NOUR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19520" y="4724280"/>
            <a:ext cx="419076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Gracias Zenab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.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5410080"/>
            <a:ext cx="44197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5909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164160" y="647712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9" descr="-1.png"/>
          <p:cNvPicPr/>
          <p:nvPr/>
        </p:nvPicPr>
        <p:blipFill>
          <a:blip r:embed="rId1"/>
          <a:stretch/>
        </p:blipFill>
        <p:spPr>
          <a:xfrm>
            <a:off x="2209680" y="4191120"/>
            <a:ext cx="609840" cy="45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Photo on 12-4-12 at 8.58 AM #3.jpg"/>
          <p:cNvPicPr/>
          <p:nvPr/>
        </p:nvPicPr>
        <p:blipFill>
          <a:blip r:embed="rId2"/>
          <a:stretch/>
        </p:blipFill>
        <p:spPr>
          <a:xfrm>
            <a:off x="152280" y="533520"/>
            <a:ext cx="167976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9" descr="Photo on 12-4-12 at 8.58 AM #3.jpg"/>
          <p:cNvPicPr/>
          <p:nvPr/>
        </p:nvPicPr>
        <p:blipFill>
          <a:blip r:embed="rId3"/>
          <a:stretch/>
        </p:blipFill>
        <p:spPr>
          <a:xfrm>
            <a:off x="2133720" y="2438280"/>
            <a:ext cx="56016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0" descr="Photo on 12-4-12 at 8.58 AM #3.jpg"/>
          <p:cNvPicPr/>
          <p:nvPr/>
        </p:nvPicPr>
        <p:blipFill>
          <a:blip r:embed="rId4"/>
          <a:stretch/>
        </p:blipFill>
        <p:spPr>
          <a:xfrm>
            <a:off x="7848720" y="2743200"/>
            <a:ext cx="56016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1" descr="Photo on 12-4-12 at 8.58 AM #3.jpg"/>
          <p:cNvPicPr/>
          <p:nvPr/>
        </p:nvPicPr>
        <p:blipFill>
          <a:blip r:embed="rId5"/>
          <a:stretch/>
        </p:blipFill>
        <p:spPr>
          <a:xfrm>
            <a:off x="2133720" y="5257800"/>
            <a:ext cx="56016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Photo on 12-4-12 at 9-1.jpeg"/>
          <p:cNvPicPr/>
          <p:nvPr/>
        </p:nvPicPr>
        <p:blipFill>
          <a:blip r:embed="rId6"/>
          <a:stretch/>
        </p:blipFill>
        <p:spPr>
          <a:xfrm>
            <a:off x="1371600" y="5257800"/>
            <a:ext cx="609480" cy="40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Photo on 12-4-12 at 9.jpeg"/>
          <p:cNvPicPr/>
          <p:nvPr/>
        </p:nvPicPr>
        <p:blipFill>
          <a:blip r:embed="rId7"/>
          <a:stretch/>
        </p:blipFill>
        <p:spPr>
          <a:xfrm>
            <a:off x="762120" y="5334120"/>
            <a:ext cx="533160" cy="355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5" descr="Photo on 12-4-12 at 9.jpeg"/>
          <p:cNvPicPr/>
          <p:nvPr/>
        </p:nvPicPr>
        <p:blipFill>
          <a:blip r:embed="rId8"/>
          <a:stretch/>
        </p:blipFill>
        <p:spPr>
          <a:xfrm>
            <a:off x="2209680" y="3124080"/>
            <a:ext cx="533520" cy="355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6" descr="Photo on 12-4-12 at 9.jpeg"/>
          <p:cNvPicPr/>
          <p:nvPr/>
        </p:nvPicPr>
        <p:blipFill>
          <a:blip r:embed="rId9"/>
          <a:stretch/>
        </p:blipFill>
        <p:spPr>
          <a:xfrm>
            <a:off x="2209680" y="3657600"/>
            <a:ext cx="533520" cy="355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7" descr="Photo on 12-4-12 at 9.jpeg"/>
          <p:cNvPicPr/>
          <p:nvPr/>
        </p:nvPicPr>
        <p:blipFill>
          <a:blip r:embed="rId10"/>
          <a:stretch/>
        </p:blipFill>
        <p:spPr>
          <a:xfrm>
            <a:off x="2133720" y="6019920"/>
            <a:ext cx="533160" cy="35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9" descr="-1.png"/>
          <p:cNvPicPr/>
          <p:nvPr/>
        </p:nvPicPr>
        <p:blipFill>
          <a:blip r:embed="rId11"/>
          <a:stretch/>
        </p:blipFill>
        <p:spPr>
          <a:xfrm>
            <a:off x="76320" y="5257800"/>
            <a:ext cx="609480" cy="455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7"/>
          <p:cNvSpPr/>
          <p:nvPr/>
        </p:nvSpPr>
        <p:spPr>
          <a:xfrm>
            <a:off x="2743200" y="6019920"/>
            <a:ext cx="44197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5:48Z</dcterms:created>
  <dc:creator>FriscoISD</dc:creator>
  <dc:description/>
  <dc:language>en-US</dc:language>
  <cp:lastModifiedBy>NYCDOE</cp:lastModifiedBy>
  <dcterms:modified xsi:type="dcterms:W3CDTF">2012-12-07T14:06:42Z</dcterms:modified>
  <cp:revision>104</cp:revision>
  <dc:subject/>
  <dc:title>Profile</dc:title>
</cp:coreProperties>
</file>